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52B-45B7-4703-AC4F-931C549A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C71-6BD6-4FC0-B844-B95AE7EA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26B-ECFB-4119-914C-245D09E1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465-CEAE-4EE4-987E-1352F7EE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4A9B-A2C6-4FDD-A527-77BBE613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70C-4491-44D5-B5D6-D12F7317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0AD-BEB5-425B-BDC8-776DB502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3672-BF14-4393-B486-561FC82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EE7C-DF35-48B2-98D6-23D084BC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F75D-404A-4E50-A1FD-A4DC517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AA42-5ACE-4222-9FD1-2C00D07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507-7FE0-4706-8405-A8EDACC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4BA-0B12-48DA-8F2E-AC51FEE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D74-6917-4644-AA7A-14DAECF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F8F3-6E16-4780-AEA8-55A53ECD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E504-5F6E-483D-B382-A1412641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7F37-FB9D-4118-9B76-33C8B747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7F0-5DF5-4060-B84E-800D8C5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0FA-C522-4183-BF76-6153BCEF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9E9-0E5C-4450-B273-019035E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07C-2C0B-4DBA-8316-D5516E4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30F-CBD6-402D-837D-B105910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9A1-BA65-4DA8-8C14-7855AB2B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E5B-B8F1-4982-815B-00E95E6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66D-4B5E-4766-8909-DFFCA5FA09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noFill/>
          <a:ln w="648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noFill/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CD7-317A-4E93-83BC-B0B5C232A8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marL="3934440" indent="-39344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260280" indent="367416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602640" indent="33318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934440" indent="-31662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934440" indent="-291024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8.wm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12560"/>
            <a:ext cx="74674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Verdana"/>
              </a:rPr>
              <a:t>Empire Hotels</a:t>
            </a:r>
            <a:br>
              <a:rPr sz="6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PROJECT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S.M.A.R.T.</a:t>
            </a:r>
            <a:r>
              <a:rPr b="1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1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Meetings Automated Reservation 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% of 2001 bookings by seg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ed growth rates with &amp; without proj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Structure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gins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Cost ($10M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count Rate (12.5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6858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evaluate the project, utilize a 2-part mode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imu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expected PV of additional customer revenues generated from accepting the projec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ptimiz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optimal licensing fee that Empire should charge its hotels in order to recoup the project cost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 – number of bookings in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– allocation of bookings by seg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out proje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 – fee per n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– number of nights per boo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– margin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 Crystal Ball simulation to determine the present value of additional revenues that we expect the project to gener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36840" y="1168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00 tri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ndom 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growth rates by segment with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erage # nights per sta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ability of project acceptance by proper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remental revenue per proper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acceptance rate by ownership typ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– Model Snapsh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e acceptance of project at each 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aggregate PV of revenue based on accep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age percentage increase in operating margin generated from project by 2007: 3.1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96960" y="3278160"/>
          <a:ext cx="7255080" cy="2551320"/>
        </p:xfrm>
        <a:graphic>
          <a:graphicData uri="http://schemas.openxmlformats.org/drawingml/2006/table">
            <a:tbl>
              <a:tblPr/>
              <a:tblGrid>
                <a:gridCol w="1417680"/>
                <a:gridCol w="1417680"/>
                <a:gridCol w="1533600"/>
                <a:gridCol w="1314360"/>
                <a:gridCol w="1571760"/>
              </a:tblGrid>
              <a:tr h="72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 (Dec) from Av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.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 Inc (D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Actual“ 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tel accepts project? (1=Y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1 (Franchis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2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3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4 (Ow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- Projected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ected Present Value of Reven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6680" y="1679400"/>
          <a:ext cx="7149960" cy="4902480"/>
        </p:xfrm>
        <a:graphic>
          <a:graphicData uri="http://schemas.openxmlformats.org/drawingml/2006/table">
            <a:tbl>
              <a:tblPr/>
              <a:tblGrid>
                <a:gridCol w="1415880"/>
                <a:gridCol w="1508040"/>
                <a:gridCol w="1408320"/>
                <a:gridCol w="1409760"/>
                <a:gridCol w="1407960"/>
              </a:tblGrid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tis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V of Reven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085,977.0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3,669,67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6,992,417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r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89E+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kew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urt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Infi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eff. of Vari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,949,563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5,826,152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3,876,588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 Std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221,119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060720" y="2514600"/>
            <a:ext cx="1447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99840" y="2629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differential is 2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enue Sharing is 5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aint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must be at least 50% of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can not be greater than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the Managed property fee as the baselin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wned Fee is 12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anchise Fee is 8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fee recovery = Total project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Solver to determine the optimal licensing fee given the average incremental revenue for each type of property obtained from the si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00200" y="11426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total sum of the three licensing fees (O,M,F)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$32,380 per ye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following fee structure will recoup the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st of $10 million in 5 year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39880" y="2705040"/>
          <a:ext cx="6870600" cy="2832120"/>
        </p:xfrm>
        <a:graphic>
          <a:graphicData uri="http://schemas.openxmlformats.org/drawingml/2006/table">
            <a:tbl>
              <a:tblPr/>
              <a:tblGrid>
                <a:gridCol w="1076400"/>
                <a:gridCol w="1012680"/>
                <a:gridCol w="1995480"/>
                <a:gridCol w="1249200"/>
                <a:gridCol w="1536840"/>
              </a:tblGrid>
              <a:tr h="88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# of Expecte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verage Excess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censing Fee pe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tal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15,0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7,676,7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8,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9,3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1,686,6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7,9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 636,6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32,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10,0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022560" y="505476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721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73320" y="5295960"/>
            <a:ext cx="1613160" cy="673200"/>
          </a:xfrm>
          <a:prstGeom prst="wedgeRectCallout">
            <a:avLst>
              <a:gd name="adj1" fmla="val 118995"/>
              <a:gd name="adj2" fmla="val 75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nimize Total Fe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520" y="-4957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commendation &amp; Conclus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99840" y="218448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ll generate $5 million net present val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roved operational efficien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customer satisfaction and loyal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wned Hotels: $15,05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ged Hotels: $9,37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ranchised Hotels: $7,95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: $32,3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 Project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89120" y="386064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 Fee Structure by Propert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9760" y="1510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238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Needs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posed Solution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ed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6829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Sale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5348880" y="2575440"/>
            <a:ext cx="144360" cy="82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1240 h 826920"/>
              <a:gd name="textAreaBottom" fmla="*/ 80568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8480" y="2717640"/>
            <a:ext cx="7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20120" y="1714680"/>
            <a:ext cx="1258560" cy="1091880"/>
            <a:chOff x="7620120" y="1714680"/>
            <a:chExt cx="1258560" cy="10918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717680" y="1864440"/>
              <a:ext cx="1161000" cy="9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620120" y="1714680"/>
              <a:ext cx="113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410120" y="1639800"/>
            <a:ext cx="1372320" cy="744120"/>
            <a:chOff x="1410120" y="1639800"/>
            <a:chExt cx="1372320" cy="74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625760" y="1842120"/>
              <a:ext cx="932040" cy="5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10120" y="1639800"/>
              <a:ext cx="137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 flipV="1" rot="10800000">
            <a:off x="5337720" y="1210320"/>
            <a:ext cx="144360" cy="50796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00640" y="1257480"/>
            <a:ext cx="104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lectronic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>
            <a:off x="6232680" y="1274760"/>
            <a:ext cx="1915200" cy="47232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graphicFrame>
        <p:nvGraphicFramePr>
          <p:cNvPr id="222" name=""/>
          <p:cNvGraphicFramePr/>
          <p:nvPr/>
        </p:nvGraphicFramePr>
        <p:xfrm>
          <a:off x="3406680" y="2136600"/>
          <a:ext cx="912960" cy="2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2136600"/>
                    <a:ext cx="912960" cy="2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420360" y="18651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ale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/>
          <p:nvPr/>
        </p:nvCxnSpPr>
        <p:spPr>
          <a:xfrm>
            <a:off x="2557080" y="2073240"/>
            <a:ext cx="848520" cy="99360"/>
          </a:xfrm>
          <a:prstGeom prst="curvedConnector5">
            <a:avLst>
              <a:gd name="adj1" fmla="val 50000"/>
              <a:gd name="adj2" fmla="val 4981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 flipV="1">
            <a:off x="4319280" y="1595160"/>
            <a:ext cx="246600" cy="67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endCxn id="212" idx="1"/>
          </p:cNvCxnSpPr>
          <p:nvPr/>
        </p:nvCxnSpPr>
        <p:spPr>
          <a:xfrm flipH="1" rot="16200000">
            <a:off x="4144680" y="2483280"/>
            <a:ext cx="607320" cy="259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V="1">
            <a:off x="4319280" y="2149200"/>
            <a:ext cx="1152720" cy="122400"/>
          </a:xfrm>
          <a:prstGeom prst="curvedConnector5">
            <a:avLst>
              <a:gd name="adj1" fmla="val 49953"/>
              <a:gd name="adj2" fmla="val 49852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endCxn id="220" idx="1"/>
          </p:cNvCxnSpPr>
          <p:nvPr/>
        </p:nvCxnSpPr>
        <p:spPr>
          <a:xfrm flipV="1">
            <a:off x="2070000" y="1455480"/>
            <a:ext cx="2331360" cy="148320"/>
          </a:xfrm>
          <a:prstGeom prst="curvedConnector5">
            <a:avLst>
              <a:gd name="adj1" fmla="val 49992"/>
              <a:gd name="adj2" fmla="val 49878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5938560" y="2634840"/>
            <a:ext cx="2321640" cy="207000"/>
          </a:xfrm>
          <a:prstGeom prst="curvedConnector5">
            <a:avLst>
              <a:gd name="adj1" fmla="val 37484"/>
              <a:gd name="adj2" fmla="val 81358"/>
              <a:gd name="adj3" fmla="val 37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>
            <a:off x="2090520" y="2390400"/>
            <a:ext cx="2502360" cy="585000"/>
          </a:xfrm>
          <a:prstGeom prst="curvedConnector5">
            <a:avLst>
              <a:gd name="adj1" fmla="val 37812"/>
              <a:gd name="adj2" fmla="val 50000"/>
              <a:gd name="adj3" fmla="val 37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510160" y="2878200"/>
            <a:ext cx="695520" cy="311040"/>
          </a:xfrm>
          <a:prstGeom prst="rect">
            <a:avLst/>
          </a:prstGeom>
          <a:ln w="0">
            <a:noFill/>
          </a:ln>
        </p:spPr>
      </p:pic>
      <p:cxnSp>
        <p:nvCxnSpPr>
          <p:cNvPr id="233" name=""/>
          <p:cNvCxnSpPr/>
          <p:nvPr/>
        </p:nvCxnSpPr>
        <p:spPr>
          <a:xfrm flipV="1">
            <a:off x="6141600" y="2854080"/>
            <a:ext cx="2118600" cy="186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530680" y="3252960"/>
            <a:ext cx="704880" cy="315720"/>
          </a:xfrm>
          <a:prstGeom prst="rect">
            <a:avLst/>
          </a:prstGeom>
          <a:ln w="0">
            <a:noFill/>
          </a:ln>
        </p:spPr>
      </p:pic>
      <p:cxnSp>
        <p:nvCxnSpPr>
          <p:cNvPr id="235" name=""/>
          <p:cNvCxnSpPr/>
          <p:nvPr/>
        </p:nvCxnSpPr>
        <p:spPr>
          <a:xfrm flipV="1">
            <a:off x="6160680" y="2845800"/>
            <a:ext cx="2088360" cy="56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506920" y="2471760"/>
            <a:ext cx="773280" cy="392040"/>
          </a:xfrm>
          <a:prstGeom prst="rect">
            <a:avLst/>
          </a:prstGeom>
          <a:ln w="0">
            <a:noFill/>
          </a:ln>
        </p:spPr>
      </p:pic>
      <p:cxnSp>
        <p:nvCxnSpPr>
          <p:cNvPr id="237" name=""/>
          <p:cNvCxnSpPr/>
          <p:nvPr/>
        </p:nvCxnSpPr>
        <p:spPr>
          <a:xfrm flipV="1" rot="16200000">
            <a:off x="4954680" y="-469800"/>
            <a:ext cx="462960" cy="6170040"/>
          </a:xfrm>
          <a:prstGeom prst="curvedConnector5">
            <a:avLst>
              <a:gd name="adj1" fmla="val -180466"/>
              <a:gd name="adj2" fmla="val 50000"/>
              <a:gd name="adj3" fmla="val -180466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rot="10800000">
            <a:off x="3861720" y="2402640"/>
            <a:ext cx="3756600" cy="8640"/>
          </a:xfrm>
          <a:prstGeom prst="curvedConnector5">
            <a:avLst>
              <a:gd name="adj1" fmla="val 49980"/>
              <a:gd name="adj2" fmla="val 47826"/>
              <a:gd name="adj3" fmla="val 4998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endCxn id="217" idx="3"/>
          </p:cNvCxnSpPr>
          <p:nvPr/>
        </p:nvCxnSpPr>
        <p:spPr>
          <a:xfrm flipV="1" rot="16200000">
            <a:off x="3066840" y="1603440"/>
            <a:ext cx="288360" cy="1305720"/>
          </a:xfrm>
          <a:prstGeom prst="curvedConnector5">
            <a:avLst>
              <a:gd name="adj1" fmla="val -79500"/>
              <a:gd name="adj2" fmla="val 33756"/>
              <a:gd name="adj3" fmla="val -795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graphicFrame>
        <p:nvGraphicFramePr>
          <p:cNvPr id="240" name=""/>
          <p:cNvGraphicFramePr/>
          <p:nvPr/>
        </p:nvGraphicFramePr>
        <p:xfrm>
          <a:off x="5607000" y="1066680"/>
          <a:ext cx="623880" cy="474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07000" y="1066680"/>
                    <a:ext cx="623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515560" y="2003400"/>
            <a:ext cx="80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1562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endCxn id="215" idx="1"/>
          </p:cNvCxnSpPr>
          <p:nvPr/>
        </p:nvCxnSpPr>
        <p:spPr>
          <a:xfrm>
            <a:off x="6781320" y="1668240"/>
            <a:ext cx="839160" cy="16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>
            <a:off x="6248160" y="2133720"/>
            <a:ext cx="1485000" cy="234000"/>
          </a:xfrm>
          <a:prstGeom prst="curvedConnector5">
            <a:avLst>
              <a:gd name="adj1" fmla="val 54219"/>
              <a:gd name="adj2" fmla="val 49922"/>
              <a:gd name="adj3" fmla="val 54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4610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520" y="560088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098520" y="55753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29928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599436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614664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7116480" y="4838760"/>
            <a:ext cx="216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162240" y="566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984480"/>
            <a:ext cx="91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hone/fax/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84200" y="3695760"/>
            <a:ext cx="1663920" cy="2886120"/>
            <a:chOff x="1384200" y="3695760"/>
            <a:chExt cx="1663920" cy="2886120"/>
          </a:xfrm>
        </p:grpSpPr>
        <p:sp>
          <p:nvSpPr>
            <p:cNvPr id="257" name=""/>
            <p:cNvSpPr/>
            <p:nvPr/>
          </p:nvSpPr>
          <p:spPr>
            <a:xfrm>
              <a:off x="1384200" y="3695760"/>
              <a:ext cx="1663920" cy="28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. Types up meeting RF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. Research 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. Evaluate RFP 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1, 13 Negotiation/dec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7960" y="3705120"/>
              <a:ext cx="163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226280" y="4000680"/>
            <a:ext cx="1765440" cy="2795400"/>
            <a:chOff x="7226280" y="4000680"/>
            <a:chExt cx="1765440" cy="2795400"/>
          </a:xfrm>
        </p:grpSpPr>
        <p:sp>
          <p:nvSpPr>
            <p:cNvPr id="260" name=""/>
            <p:cNvSpPr/>
            <p:nvPr/>
          </p:nvSpPr>
          <p:spPr>
            <a:xfrm>
              <a:off x="7226280" y="4000680"/>
              <a:ext cx="1765440" cy="279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5. Re-key RFP information into Sales &amp; Cater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. Determine avail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7. Initial RFP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. Prepare/type RFP respo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, 14, 15. Re-price/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07720" y="4002120"/>
              <a:ext cx="13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Hot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76640" y="4038480"/>
            <a:ext cx="2133720" cy="1747440"/>
            <a:chOff x="4076640" y="4038480"/>
            <a:chExt cx="2133720" cy="1747440"/>
          </a:xfrm>
        </p:grpSpPr>
        <p:sp>
          <p:nvSpPr>
            <p:cNvPr id="263" name=""/>
            <p:cNvSpPr/>
            <p:nvPr/>
          </p:nvSpPr>
          <p:spPr>
            <a:xfrm>
              <a:off x="4076640" y="4040280"/>
              <a:ext cx="2133720" cy="17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. Identify proper properties and contact them 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. Key in contact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. Compile multiple property level in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1880" y="4038480"/>
              <a:ext cx="17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Sale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7238880" y="1139760"/>
            <a:ext cx="1727280" cy="461880"/>
            <a:chOff x="7238880" y="1139760"/>
            <a:chExt cx="1727280" cy="461880"/>
          </a:xfrm>
        </p:grpSpPr>
        <p:sp>
          <p:nvSpPr>
            <p:cNvPr id="266" name=""/>
            <p:cNvSpPr/>
            <p:nvPr/>
          </p:nvSpPr>
          <p:spPr>
            <a:xfrm>
              <a:off x="7251480" y="12538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8880" y="1482480"/>
              <a:ext cx="368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81600" y="1139760"/>
              <a:ext cx="138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eserv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9000" y="1355400"/>
              <a:ext cx="138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Hotel 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"/>
          <p:cNvCxnSpPr/>
          <p:nvPr/>
        </p:nvCxnSpPr>
        <p:spPr>
          <a:xfrm>
            <a:off x="5562720" y="1904760"/>
            <a:ext cx="2273760" cy="5389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/>
          <p:nvPr/>
        </p:nvCxnSpPr>
        <p:spPr>
          <a:xfrm flipV="1">
            <a:off x="5157360" y="2768400"/>
            <a:ext cx="2686680" cy="148320"/>
          </a:xfrm>
          <a:prstGeom prst="curvedConnector5">
            <a:avLst>
              <a:gd name="adj1" fmla="val 50000"/>
              <a:gd name="adj2" fmla="val 49878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2" name=""/>
          <p:cNvSpPr/>
          <p:nvPr/>
        </p:nvSpPr>
        <p:spPr>
          <a:xfrm flipH="1" flipV="1" rot="10800000">
            <a:off x="4357800" y="2068560"/>
            <a:ext cx="115920" cy="465120"/>
          </a:xfrm>
          <a:custGeom>
            <a:avLst/>
            <a:gdLst>
              <a:gd name="textAreaLeft" fmla="*/ 74520 w 115920"/>
              <a:gd name="textAreaRight" fmla="*/ 116640 w 1159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6480" y="1905120"/>
            <a:ext cx="4849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831080" y="1981080"/>
            <a:ext cx="1312560" cy="1384200"/>
            <a:chOff x="7831080" y="1981080"/>
            <a:chExt cx="1312560" cy="13842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7932960" y="2171880"/>
              <a:ext cx="1210680" cy="11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831080" y="1981080"/>
              <a:ext cx="118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397160" y="1905120"/>
            <a:ext cx="995040" cy="1320480"/>
            <a:chOff x="1397160" y="1905120"/>
            <a:chExt cx="995040" cy="1320480"/>
          </a:xfrm>
        </p:grpSpPr>
        <p:graphicFrame>
          <p:nvGraphicFramePr>
            <p:cNvPr id="278" name=""/>
            <p:cNvGraphicFramePr/>
            <p:nvPr/>
          </p:nvGraphicFramePr>
          <p:xfrm>
            <a:off x="1514880" y="2387880"/>
            <a:ext cx="720720" cy="83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14880" y="2387880"/>
                      <a:ext cx="72072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1397160" y="1905120"/>
              <a:ext cx="99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ttend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38280" y="3124080"/>
            <a:ext cx="1549440" cy="1142640"/>
            <a:chOff x="2438280" y="3124080"/>
            <a:chExt cx="1549440" cy="1142640"/>
          </a:xfrm>
        </p:grpSpPr>
        <p:graphicFrame>
          <p:nvGraphicFramePr>
            <p:cNvPr id="282" name=""/>
            <p:cNvGraphicFramePr/>
            <p:nvPr/>
          </p:nvGraphicFramePr>
          <p:xfrm>
            <a:off x="2838240" y="3695760"/>
            <a:ext cx="711360" cy="570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38240" y="3695760"/>
                      <a:ext cx="71136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438280" y="3124080"/>
              <a:ext cx="154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5" name=""/>
          <p:cNvCxnSpPr/>
          <p:nvPr/>
        </p:nvCxnSpPr>
        <p:spPr>
          <a:xfrm>
            <a:off x="5409720" y="2285640"/>
            <a:ext cx="2451960" cy="33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/>
          <p:nvPr/>
        </p:nvCxnSpPr>
        <p:spPr>
          <a:xfrm flipV="1">
            <a:off x="2236680" y="1636200"/>
            <a:ext cx="712080" cy="1170720"/>
          </a:xfrm>
          <a:prstGeom prst="curvedConnector5">
            <a:avLst>
              <a:gd name="adj1" fmla="val 49974"/>
              <a:gd name="adj2" fmla="val 49984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2236680" y="2806560"/>
            <a:ext cx="602640" cy="1175760"/>
          </a:xfrm>
          <a:prstGeom prst="curvedConnector5">
            <a:avLst>
              <a:gd name="adj1" fmla="val 49850"/>
              <a:gd name="adj2" fmla="val 49984"/>
              <a:gd name="adj3" fmla="val 49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3549600" y="3981240"/>
            <a:ext cx="10994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" name=""/>
          <p:cNvGrpSpPr/>
          <p:nvPr/>
        </p:nvGrpSpPr>
        <p:grpSpPr>
          <a:xfrm>
            <a:off x="6058080" y="3479760"/>
            <a:ext cx="1079280" cy="1218960"/>
            <a:chOff x="6058080" y="3479760"/>
            <a:chExt cx="1079280" cy="1218960"/>
          </a:xfrm>
        </p:grpSpPr>
        <p:sp>
          <p:nvSpPr>
            <p:cNvPr id="290" name=""/>
            <p:cNvSpPr/>
            <p:nvPr/>
          </p:nvSpPr>
          <p:spPr>
            <a:xfrm>
              <a:off x="6210360" y="4010760"/>
              <a:ext cx="851040" cy="68796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58080" y="3479760"/>
              <a:ext cx="107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entral Reservation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2" name=""/>
          <p:cNvCxnSpPr/>
          <p:nvPr/>
        </p:nvCxnSpPr>
        <p:spPr>
          <a:xfrm>
            <a:off x="5562720" y="4063680"/>
            <a:ext cx="699120" cy="16596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endCxn id="275" idx="2"/>
          </p:cNvCxnSpPr>
          <p:nvPr/>
        </p:nvCxnSpPr>
        <p:spPr>
          <a:xfrm flipV="1">
            <a:off x="7014960" y="3364920"/>
            <a:ext cx="1524600" cy="85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4" name=""/>
          <p:cNvGrpSpPr/>
          <p:nvPr/>
        </p:nvGrpSpPr>
        <p:grpSpPr>
          <a:xfrm>
            <a:off x="2587680" y="1066680"/>
            <a:ext cx="1476360" cy="914040"/>
            <a:chOff x="2587680" y="1066680"/>
            <a:chExt cx="1476360" cy="914040"/>
          </a:xfrm>
        </p:grpSpPr>
        <p:graphicFrame>
          <p:nvGraphicFramePr>
            <p:cNvPr id="295" name=""/>
            <p:cNvGraphicFramePr/>
            <p:nvPr/>
          </p:nvGraphicFramePr>
          <p:xfrm>
            <a:off x="2948040" y="1292040"/>
            <a:ext cx="746640" cy="688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48040" y="1292040"/>
                      <a:ext cx="74664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2587680" y="1066680"/>
              <a:ext cx="14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42960" y="3147840"/>
            <a:ext cx="90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imi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7240" y="3708360"/>
            <a:ext cx="736560" cy="609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4746600" y="2073240"/>
            <a:ext cx="587520" cy="304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4772160" y="1600200"/>
            <a:ext cx="620640" cy="365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4749840" y="2527200"/>
            <a:ext cx="563400" cy="292320"/>
          </a:xfrm>
          <a:prstGeom prst="rect">
            <a:avLst/>
          </a:prstGeom>
          <a:ln w="0">
            <a:noFill/>
          </a:ln>
        </p:spPr>
      </p:pic>
      <p:cxnSp>
        <p:nvCxnSpPr>
          <p:cNvPr id="303" name=""/>
          <p:cNvCxnSpPr/>
          <p:nvPr/>
        </p:nvCxnSpPr>
        <p:spPr>
          <a:xfrm rot="10800000">
            <a:off x="5460120" y="4342680"/>
            <a:ext cx="699480" cy="115200"/>
          </a:xfrm>
          <a:prstGeom prst="curvedConnector5">
            <a:avLst>
              <a:gd name="adj1" fmla="val 50000"/>
              <a:gd name="adj2" fmla="val 49843"/>
              <a:gd name="adj3" fmla="val 5000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rot="10800000">
            <a:off x="3796560" y="4137840"/>
            <a:ext cx="1308960" cy="2055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V="1">
            <a:off x="2236680" y="2448000"/>
            <a:ext cx="1843920" cy="3589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6858000" y="5008680"/>
            <a:ext cx="2070000" cy="131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entry of Rooming List from Plann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is labor intens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list 30 days prior to meeting thus a lack of view into meeting pi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4648320"/>
            <a:ext cx="220968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act hotel directly, meeting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either the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does not match the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otential for 2 sets of data entry errors on attendee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89240" y="5084640"/>
            <a:ext cx="2311560" cy="12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abor intensive for their staff if they create rooming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view into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endCxn id="273" idx="2"/>
          </p:cNvCxnSpPr>
          <p:nvPr/>
        </p:nvCxnSpPr>
        <p:spPr>
          <a:xfrm flipV="1">
            <a:off x="3549600" y="2736360"/>
            <a:ext cx="658080" cy="124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2987640" y="1562040"/>
            <a:ext cx="130464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-682920"/>
            <a:ext cx="7454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Reserv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"/>
          <p:cNvCxnSpPr/>
          <p:nvPr/>
        </p:nvCxnSpPr>
        <p:spPr>
          <a:xfrm flipV="1" rot="10800000">
            <a:off x="7178040" y="3351240"/>
            <a:ext cx="1614960" cy="1003680"/>
          </a:xfrm>
          <a:prstGeom prst="curvedConnector5">
            <a:avLst>
              <a:gd name="adj1" fmla="val 8940"/>
              <a:gd name="adj2" fmla="val 49982"/>
              <a:gd name="adj3" fmla="val 894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Growth Rat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15960" y="1494000"/>
            <a:ext cx="7145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Rate &amp; Margi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469880" y="1509840"/>
            <a:ext cx="675972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– Simulation Key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5-year projection of book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 * A * G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over all 3 segme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5-year projection of reven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rojected #bookings) * (F *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incremental revenue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Revenue w/project – Revenue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ercentage increase of operating margin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M * Incremental R) / (M * R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rule of thumb, 50% probability of acceptance i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-year % increase &gt; average % increase over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Solver Tabl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55720" y="1887480"/>
            <a:ext cx="5981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Objectiv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unch a product to service the small meetings market that will enhance customer satisfaction and increase profitab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roposed Solu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ild a centralized system to manage all meeting inventory and s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hance online meeting reservation experience throug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eting specific Web 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ttend a meeting” functiona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line reporting of meeting reservations that allow meeting planners to view meeting pick-up and attendee lists 24/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53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Sales Need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1204920"/>
            <a:ext cx="443232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ales Off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leads sent to 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quantify value of an ac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d-to-conversion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37040"/>
            <a:ext cx="5943600" cy="123768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request for meeting availability and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gle image of inventory and pricing so call to hotel results in same price as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8360" y="4876920"/>
            <a:ext cx="735336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cross-sell meeting requests to sister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number of non-convertible l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for distressed inventory and last minute canc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2895480"/>
            <a:ext cx="541008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Attende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“Attend a Meeting”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formation on hotel and meeting during reservation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rate data entry of 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eting confirmation number that hotel can cross-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371600"/>
            <a:ext cx="6477120" cy="127584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reservation processing (“Attend a Meeting” functionality)  for attend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rition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pability to sub-block meeting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4649760"/>
            <a:ext cx="7226280" cy="171720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ter yield management against meeting re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of data entry on rooming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in producing pickup reports and rooming lists for meeting pla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cross-sell, up-sell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during slow transient or corporate marke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-530280"/>
            <a:ext cx="72392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Reservation Nee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-7365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ed Solution: Sales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7240" y="961920"/>
            <a:ext cx="3506400" cy="554400"/>
            <a:chOff x="5637240" y="961920"/>
            <a:chExt cx="3506400" cy="554400"/>
          </a:xfrm>
        </p:grpSpPr>
        <p:sp>
          <p:nvSpPr>
            <p:cNvPr id="105" name=""/>
            <p:cNvSpPr/>
            <p:nvPr/>
          </p:nvSpPr>
          <p:spPr>
            <a:xfrm>
              <a:off x="5637240" y="108720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55480" y="961920"/>
              <a:ext cx="31881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-Way Communication of Requ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Availability/Pri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704000" y="2101680"/>
            <a:ext cx="1322280" cy="1271880"/>
            <a:chOff x="7704000" y="2101680"/>
            <a:chExt cx="1322280" cy="12718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806600" y="2277000"/>
              <a:ext cx="121968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704000" y="2101680"/>
              <a:ext cx="11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31640" y="2251080"/>
            <a:ext cx="1527840" cy="923400"/>
            <a:chOff x="1331640" y="2251080"/>
            <a:chExt cx="1527840" cy="923400"/>
          </a:xfrm>
        </p:grpSpPr>
        <p:graphicFrame>
          <p:nvGraphicFramePr>
            <p:cNvPr id="111" name=""/>
            <p:cNvGraphicFramePr/>
            <p:nvPr/>
          </p:nvGraphicFramePr>
          <p:xfrm>
            <a:off x="1571400" y="2479680"/>
            <a:ext cx="1034280" cy="69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1400" y="2479680"/>
                      <a:ext cx="1034280" cy="69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331640" y="225108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68720" y="1370160"/>
            <a:ext cx="1096560" cy="640800"/>
            <a:chOff x="3168720" y="1370160"/>
            <a:chExt cx="1096560" cy="6408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168720" y="1616760"/>
              <a:ext cx="109656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203280" y="1370160"/>
              <a:ext cx="100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ales Off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105440" y="2235240"/>
            <a:ext cx="1268280" cy="896760"/>
          </a:xfrm>
          <a:prstGeom prst="cloudCallout">
            <a:avLst>
              <a:gd name="adj1" fmla="val -39300"/>
              <a:gd name="adj2" fmla="val -1041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5040" y="2193840"/>
            <a:ext cx="1279800" cy="1071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5417640" y="2650680"/>
            <a:ext cx="492840" cy="1080"/>
          </a:xfrm>
          <a:prstGeom prst="curvedConnector5">
            <a:avLst>
              <a:gd name="adj1" fmla="val 49853"/>
              <a:gd name="adj2" fmla="val 50000"/>
              <a:gd name="adj3" fmla="val 4985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3020760" y="2879640"/>
            <a:ext cx="1032480" cy="796680"/>
            <a:chOff x="3020760" y="2879640"/>
            <a:chExt cx="1032480" cy="796680"/>
          </a:xfrm>
        </p:grpSpPr>
        <p:graphicFrame>
          <p:nvGraphicFramePr>
            <p:cNvPr id="121" name=""/>
            <p:cNvGraphicFramePr/>
            <p:nvPr/>
          </p:nvGraphicFramePr>
          <p:xfrm>
            <a:off x="3182760" y="3290400"/>
            <a:ext cx="750600" cy="3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2760" y="3290400"/>
                      <a:ext cx="75060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3020760" y="2879640"/>
              <a:ext cx="103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46400" y="3821040"/>
            <a:ext cx="990720" cy="839520"/>
            <a:chOff x="3146400" y="3821040"/>
            <a:chExt cx="990720" cy="839520"/>
          </a:xfrm>
        </p:grpSpPr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3197880" y="4023360"/>
              <a:ext cx="939240" cy="6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6400" y="3821040"/>
              <a:ext cx="91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"/>
          <p:cNvCxnSpPr/>
          <p:nvPr/>
        </p:nvCxnSpPr>
        <p:spPr>
          <a:xfrm flipH="1" flipV="1" rot="5400000">
            <a:off x="7395120" y="1283040"/>
            <a:ext cx="92880" cy="1713600"/>
          </a:xfrm>
          <a:prstGeom prst="curvedConnector5">
            <a:avLst>
              <a:gd name="adj1" fmla="val 263424"/>
              <a:gd name="adj2" fmla="val 49989"/>
              <a:gd name="adj3" fmla="val 263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 rot="16200000">
            <a:off x="7446600" y="2410920"/>
            <a:ext cx="108720" cy="1832400"/>
          </a:xfrm>
          <a:prstGeom prst="curvedConnector5">
            <a:avLst>
              <a:gd name="adj1" fmla="val -138205"/>
              <a:gd name="adj2" fmla="val 49990"/>
              <a:gd name="adj3" fmla="val -1382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553080" y="1523880"/>
            <a:ext cx="20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 to Sales &amp; Cat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0280" y="3551400"/>
            <a:ext cx="168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 Manages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ventory in SM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 flipV="1" rot="5400000">
            <a:off x="2283120" y="1522800"/>
            <a:ext cx="602640" cy="11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17" idx="0"/>
          </p:cNvCxnSpPr>
          <p:nvPr/>
        </p:nvCxnSpPr>
        <p:spPr>
          <a:xfrm flipV="1">
            <a:off x="2604960" y="2683800"/>
            <a:ext cx="1504080" cy="14364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2593080" y="2670480"/>
            <a:ext cx="170640" cy="1178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H="1" rot="16200000">
            <a:off x="2176920" y="3086640"/>
            <a:ext cx="1017000" cy="1192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>
            <a:off x="4136760" y="3139560"/>
            <a:ext cx="603720" cy="1161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3922560" y="3130200"/>
            <a:ext cx="805680" cy="3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4265640" y="1806480"/>
            <a:ext cx="475200" cy="470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34960" y="5278320"/>
            <a:ext cx="2070360" cy="152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book a meeting through the sales office, hotel directly, online at our branded websites and eventually at our call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897440"/>
            <a:ext cx="2362320" cy="175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ales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have same availability and pricing information that the property h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lose more leads because they can respond faster to the meeting planner on availability and pri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4648320"/>
            <a:ext cx="243864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sell meetings into the same system as Sales reps and planners on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ross-sell a sister property if they cannot accommodate the meeting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fers additional sales channels for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-7239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posed Solution: Reserva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197760" y="1979640"/>
            <a:ext cx="1041120" cy="110664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 flipV="1">
            <a:off x="7238880" y="2208240"/>
            <a:ext cx="610560" cy="766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3581280" y="3298680"/>
            <a:ext cx="1019160" cy="1349280"/>
            <a:chOff x="3581280" y="3298680"/>
            <a:chExt cx="1019160" cy="1349280"/>
          </a:xfrm>
        </p:grpSpPr>
        <p:graphicFrame>
          <p:nvGraphicFramePr>
            <p:cNvPr id="145" name=""/>
            <p:cNvGraphicFramePr/>
            <p:nvPr/>
          </p:nvGraphicFramePr>
          <p:xfrm>
            <a:off x="3732120" y="3924360"/>
            <a:ext cx="760320" cy="72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2120" y="3924360"/>
                      <a:ext cx="76032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3581280" y="3298680"/>
              <a:ext cx="101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353960" y="1838160"/>
            <a:ext cx="889560" cy="1427040"/>
            <a:chOff x="1353960" y="1838160"/>
            <a:chExt cx="889560" cy="1427040"/>
          </a:xfrm>
        </p:grpSpPr>
        <p:graphicFrame>
          <p:nvGraphicFramePr>
            <p:cNvPr id="149" name=""/>
            <p:cNvGraphicFramePr/>
            <p:nvPr/>
          </p:nvGraphicFramePr>
          <p:xfrm>
            <a:off x="1359000" y="2417040"/>
            <a:ext cx="836280" cy="84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59000" y="2417040"/>
                      <a:ext cx="83628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353960" y="1838160"/>
              <a:ext cx="88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ttendee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386880" y="2155680"/>
            <a:ext cx="1626840" cy="1055160"/>
            <a:chOff x="3386880" y="2155680"/>
            <a:chExt cx="1626840" cy="1055160"/>
          </a:xfrm>
        </p:grpSpPr>
        <p:graphicFrame>
          <p:nvGraphicFramePr>
            <p:cNvPr id="153" name=""/>
            <p:cNvGraphicFramePr/>
            <p:nvPr/>
          </p:nvGraphicFramePr>
          <p:xfrm>
            <a:off x="3654360" y="2616840"/>
            <a:ext cx="1036800" cy="59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4360" y="2616840"/>
                      <a:ext cx="1036800" cy="5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3386880" y="2155680"/>
              <a:ext cx="16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"/>
          <p:cNvCxnSpPr/>
          <p:nvPr/>
        </p:nvCxnSpPr>
        <p:spPr>
          <a:xfrm flipH="1" rot="16200000">
            <a:off x="2244600" y="2798280"/>
            <a:ext cx="102132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 flipV="1">
            <a:off x="2195640" y="1640880"/>
            <a:ext cx="1124640" cy="294120"/>
          </a:xfrm>
          <a:prstGeom prst="curvedConnector5">
            <a:avLst>
              <a:gd name="adj1" fmla="val 49695"/>
              <a:gd name="adj2" fmla="val 50000"/>
              <a:gd name="adj3" fmla="val 49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" name=""/>
          <p:cNvGrpSpPr/>
          <p:nvPr/>
        </p:nvGrpSpPr>
        <p:grpSpPr>
          <a:xfrm>
            <a:off x="7759800" y="1827360"/>
            <a:ext cx="1383840" cy="1291680"/>
            <a:chOff x="7759800" y="1827360"/>
            <a:chExt cx="1383840" cy="1291680"/>
          </a:xfrm>
        </p:grpSpPr>
        <p:pic>
          <p:nvPicPr>
            <p:cNvPr id="159" name="" descr=""/>
            <p:cNvPicPr/>
            <p:nvPr/>
          </p:nvPicPr>
          <p:blipFill>
            <a:blip r:embed="rId7"/>
            <a:stretch/>
          </p:blipFill>
          <p:spPr>
            <a:xfrm>
              <a:off x="7867080" y="2004480"/>
              <a:ext cx="12765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59800" y="1827360"/>
              <a:ext cx="124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"/>
          <p:cNvCxnSpPr/>
          <p:nvPr/>
        </p:nvCxnSpPr>
        <p:spPr>
          <a:xfrm flipV="1">
            <a:off x="8458200" y="3198240"/>
            <a:ext cx="3564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4492440" y="3933000"/>
            <a:ext cx="3246840" cy="3531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4" idx="0"/>
          </p:cNvCxnSpPr>
          <p:nvPr/>
        </p:nvCxnSpPr>
        <p:spPr>
          <a:xfrm>
            <a:off x="4913280" y="1641240"/>
            <a:ext cx="1208880" cy="794520"/>
          </a:xfrm>
          <a:prstGeom prst="curvedConnector5">
            <a:avLst>
              <a:gd name="adj1" fmla="val 50044"/>
              <a:gd name="adj2" fmla="val 50000"/>
              <a:gd name="adj3" fmla="val 5004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65" name=""/>
          <p:cNvGrpSpPr/>
          <p:nvPr/>
        </p:nvGrpSpPr>
        <p:grpSpPr>
          <a:xfrm>
            <a:off x="7607160" y="3340080"/>
            <a:ext cx="1079640" cy="960120"/>
            <a:chOff x="7607160" y="3340080"/>
            <a:chExt cx="1079640" cy="960120"/>
          </a:xfrm>
        </p:grpSpPr>
        <p:sp>
          <p:nvSpPr>
            <p:cNvPr id="166" name=""/>
            <p:cNvSpPr/>
            <p:nvPr/>
          </p:nvSpPr>
          <p:spPr>
            <a:xfrm>
              <a:off x="7734240" y="3511800"/>
              <a:ext cx="851040" cy="78840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7160" y="3340080"/>
              <a:ext cx="10796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99000" y="120168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776160"/>
            <a:ext cx="3429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-Way Communication of Reser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Hotel Confi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7480" y="1095480"/>
            <a:ext cx="1587600" cy="1092240"/>
          </a:xfrm>
          <a:prstGeom prst="cloudCallout">
            <a:avLst>
              <a:gd name="adj1" fmla="val 17898"/>
              <a:gd name="adj2" fmla="val 25870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(Meeting Web sites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ttend A Meeting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/>
          <p:nvPr/>
        </p:nvCxnSpPr>
        <p:spPr>
          <a:xfrm flipH="1" flipV="1" rot="5400000">
            <a:off x="2540520" y="2151360"/>
            <a:ext cx="351360" cy="1877040"/>
          </a:xfrm>
          <a:prstGeom prst="curvedConnector5">
            <a:avLst>
              <a:gd name="adj1" fmla="val -65128"/>
              <a:gd name="adj2" fmla="val 30577"/>
              <a:gd name="adj3" fmla="val -65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42" idx="0"/>
          </p:cNvCxnSpPr>
          <p:nvPr/>
        </p:nvCxnSpPr>
        <p:spPr>
          <a:xfrm>
            <a:off x="4690800" y="2914200"/>
            <a:ext cx="2027520" cy="172440"/>
          </a:xfrm>
          <a:prstGeom prst="curvedConnector5">
            <a:avLst>
              <a:gd name="adj1" fmla="val 37115"/>
              <a:gd name="adj2" fmla="val 116527"/>
              <a:gd name="adj3" fmla="val 3711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6934320" y="4927680"/>
            <a:ext cx="2070000" cy="14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more re-keying rooming lists from meeting planners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housing compan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al-time reservation processing into PMS for better yiel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546440"/>
            <a:ext cx="182880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oes online to meeting websites to book meeting re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that is the hotel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in information so it reduces chance of data entry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03720" y="4851360"/>
            <a:ext cx="2120760" cy="15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uilds rooming list directly into SMAR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hotel confirmation number for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view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1226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-e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-483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usiness Justification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143000"/>
            <a:ext cx="6781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provides Empire with a strong valu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position to meeting planners with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w products that make planning a meeting easier and f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eting management tools that are unmatched by the competi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will leverage existing Empire 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nnel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pire Preferred Plann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dit card marketing partnershi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orts and convention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-5432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returns positive NPV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tels agree to implement solutio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 sub-segment growth ra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mulation vs. Optimiz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21:10:43Z</dcterms:created>
  <dc:creator>Stern School</dc:creator>
  <dc:description/>
  <dc:language>en-US</dc:language>
  <cp:lastModifiedBy>David Juran</cp:lastModifiedBy>
  <dcterms:modified xsi:type="dcterms:W3CDTF">2002-12-16T22:06:33Z</dcterms:modified>
  <cp:revision>61</cp:revision>
  <dc:subject/>
  <dc:title>Slide 1</dc:title>
</cp:coreProperties>
</file>